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198-BA65-49E6-A06C-D57B5C1F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736-D763-445E-9E1A-4521908D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F7C-85F0-40B0-8D15-2B839513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779-98EB-4B84-AF60-6EFA0713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8FE8-E4E0-4554-9EBD-6FF55D13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CE3E-A3AB-462E-9834-0B1BBB71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F5B3-4FE3-4480-91A1-053AC344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36E-BA78-4020-A13C-6599BD4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05A8-B4CA-427D-B50A-4CA65C21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2ECE-8D02-4538-BF24-14C018BA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4C2C-9ECB-43C8-BA02-74DD795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D44-5C2A-44AE-BCAE-74293EB3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299D-6520-40F6-B00C-E60F1CD0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B8CE-A77D-4D72-8547-75283D4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6C6E-19C6-4534-9F1D-C3992956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BCF8-3BA7-492E-B69F-F6449196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43B9-37E9-424C-9BED-BCC4C0B0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2B4-A0D3-4C5F-83BA-846B60DE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F5C-C1ED-4ED9-835C-31E336AB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59F-DF3C-4F55-BC3B-1FF1D1AD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73B-3A03-4AD0-8ED7-FDE1332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A1E-5D86-4904-9B04-855224C8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5EF-C195-4142-B4F2-5196282B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8D7-7E95-4C06-ABA3-F505356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8B9-2BA9-4E8D-ABA7-5E93BD74E47F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8E7C-439B-4547-9529-4DFC8455A612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erveysvaikutusarviointi kaikessa päätöksenteossa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ouni Tuomisto, Mikko Pohjola Y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VA kaikkeen päätöksenteko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Miksi?</a:t>
            </a:r>
            <a:br>
              <a:rPr sz="2600"/>
            </a:b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aa tietoa päätöksentek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päätöks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toi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arempia vaikutuks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156360" y="2565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70836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421164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588000" y="1555920"/>
            <a:ext cx="1798920" cy="720720"/>
          </a:xfrm>
          <a:prstGeom prst="wedgeRectCallout">
            <a:avLst>
              <a:gd name="adj1" fmla="val -43731"/>
              <a:gd name="adj2" fmla="val 74009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Tietoa kenel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ieto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t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4643280" y="2852640"/>
            <a:ext cx="2016360" cy="50508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211640" y="3932280"/>
            <a:ext cx="2016000" cy="50472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oiminta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toimes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788000" y="4794120"/>
            <a:ext cx="2016000" cy="722520"/>
          </a:xfrm>
          <a:prstGeom prst="wedgeRectCallout">
            <a:avLst>
              <a:gd name="adj1" fmla="val -44407"/>
              <a:gd name="adj2" fmla="val 73958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vaikutuks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s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hin kohdistu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.: marketti taajaman ulkopuolell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554200" y="1628640"/>
            <a:ext cx="1800360" cy="27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ava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nvestointi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up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iikennemuo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alvelujen sijai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uinpaik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714920" y="1628640"/>
            <a:ext cx="180036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enkilö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akentam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ämmitys, sähk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lu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n tuot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paa-ajan vi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5640" y="1628640"/>
            <a:ext cx="180000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ikut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n laa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stonmu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Ympäristökuorm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stannu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ot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Fyysinen aktiivisu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iihtyisy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3840" y="1628640"/>
            <a:ext cx="1800000" cy="38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Päättäjät: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viiteke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ysymy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yhteisön tarp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Asiantuntij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tutkimus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einot, välin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Yritykset, kansalaiset, järjestö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4067280" y="292428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067280" y="256392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4067280" y="220500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2482920" y="2060640"/>
            <a:ext cx="151128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35456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219384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651528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4"/>
          <p:cNvSpPr/>
          <p:nvPr/>
        </p:nvSpPr>
        <p:spPr>
          <a:xfrm rot="10800000">
            <a:off x="2555640" y="5156280"/>
            <a:ext cx="2447640" cy="792000"/>
          </a:xfrm>
          <a:prstGeom prst="wedgeRectCallout">
            <a:avLst>
              <a:gd name="adj1" fmla="val 55120"/>
              <a:gd name="adj2" fmla="val 1397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asiat ov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muuttuvat, jos...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pitäisi ol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stä siis on kys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yvä terveysvaikutusarviointi johtaa (auttaa) hyviin päätöksiin, toimiin ja vaikutuksi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Olemassa/saatavilla olevan tiedon käyttö on ratkaisevaa!</a:t>
            </a:r>
            <a:br>
              <a:rPr sz="2000"/>
            </a:b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Mi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32000" y="3416400"/>
            <a:ext cx="6264360" cy="222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don tuotanto ja arviointi tiiviisti yht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 oleelliset toimijat mu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Arvokasta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Merkitystä päättäjänä, toimijana tai kokij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määrät ja arvot mukaan arviointiin ja jul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ksittäisten tapausten tiedot myös muiden käytt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ikuttavuuden arviointi ja seur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ollaboratiivisen tiedon tuotannon ja käytön toiminta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4360" y="5516640"/>
            <a:ext cx="748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inoja ja välineitä sekä halua vaikuttaa on, mutta päätöksenteon viitekehykset ja toimintamallit ehkäisevät tiedon vaikuttavuut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VARI,suomenk"/>
          <p:cNvPicPr/>
          <p:nvPr/>
        </p:nvPicPr>
        <p:blipFill>
          <a:blip r:embed="rId1"/>
          <a:stretch/>
        </p:blipFill>
        <p:spPr>
          <a:xfrm>
            <a:off x="2378160" y="1341360"/>
            <a:ext cx="40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oimenpide-ehdo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kunnallisen päätöksenteon ja sen tukemisen viitekehysten ja toimintatapojen kehittä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~ Luodaan kysyntää vastaamaan tiedon tarjo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84360" y="2781360"/>
            <a:ext cx="3743280" cy="3265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ilot projekti 2012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iorisointi tärkeyden ja vaikutuspotentiaalin peruste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on pohjautuvan päätöksenteon ideaalima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llin sovitus todellisiin tilant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ytännön päätöksenteon ja sen tukemisen cas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öksenteon hyvyysarvioi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219640" y="3462480"/>
            <a:ext cx="3240000" cy="160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2015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Yhteiskunnallisen päätöksenteon viitekehysten ja toimintamallien laajempi uudistami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4500720" y="429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1:19:53Z</dcterms:modified>
  <cp:revision>18</cp:revision>
  <dc:subject/>
  <dc:title>Avoin mallitus. Esimerkkinä liikenteen muutosten päästövaikutukset ja sairastuvuus</dc:title>
</cp:coreProperties>
</file>